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741-C78B-4C68-90F7-19E875AA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BCF-F19D-46B8-A3EC-89E2BC8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8CB-2CC0-4FA7-AECA-DDB7A611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184-37EA-40B2-B935-BF00EAB6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4E6-FD67-41F1-BAA1-320944C9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E388-FB86-4AB8-87C6-7B975E0E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57B-0546-4648-B395-CDC87120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878-4CDC-436E-90C7-9F2A239C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E46C-1B6A-4362-8A98-06C3B5C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9739-24E7-434F-8FC2-202287A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90C-1E30-48D1-91DB-6DA2618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61C-A1A9-4EB7-B47A-B83E1C40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446-4641-4D10-BD0A-209BAA1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0925-94F3-4963-B557-C58146A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F1B-EFA4-4E7A-8637-27DF8C5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E6B-3773-4786-9307-8B9D709C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AAAD-A340-46CA-A5BC-C8D4DB30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4C0-639D-402D-846F-C95A85D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86D-D989-46B2-B2BF-25F58CA9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80A-33CF-458A-AD45-F14F5845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99C-735E-450C-97F8-44B7EA12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DDB-1178-447E-9893-7164EC5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B03-0B83-4761-BB15-4BBFB49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B2C-8AE0-404A-9575-10C1297A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7BA-CC78-49AD-9D7E-96A4BEE14EA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FC0E-9EDC-4C46-B27D-A60100D381B9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97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00000" y="1484280"/>
            <a:ext cx="395928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anitario y 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u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2" name="9 Conector recto de flecha"/>
          <p:cNvCxnSpPr/>
          <p:nvPr/>
        </p:nvCxnSpPr>
        <p:spPr>
          <a:xfrm>
            <a:off x="4284720" y="3212640"/>
            <a:ext cx="721440" cy="252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4500720" y="45086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1360" y="1197000"/>
            <a:ext cx="82612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39640" y="274680"/>
            <a:ext cx="8064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dossier</cp:lastModifiedBy>
  <dcterms:modified xsi:type="dcterms:W3CDTF">2011-10-25T18:31:24Z</dcterms:modified>
  <cp:revision>58</cp:revision>
  <dc:subject/>
  <dc:title>Diapositiva 1</dc:title>
</cp:coreProperties>
</file>